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036-D072-492D-9C88-6CA90AE5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F7F-E3D9-42EF-943F-9BCE9E1A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B91-85F8-4CE2-A836-50490A87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7F5-BD74-4E5F-AD9E-911B7100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BAD-B0DD-4A45-91A1-61A25AAC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ED8-800D-4491-9FF0-01E3CF7E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C19-A232-4275-B0EF-B8109A35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E20-1D54-4887-9334-5DADD884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140-75C1-4DCF-8625-32B16292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EFB1-1FEA-49D0-94D7-50B9340E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A0E-0209-438B-B5F7-8CA33B4A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FF5-A2AE-4393-B234-D92CD597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1456-6EA7-4D5F-B10D-68E65051D93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er un ajus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utilisant la fic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5600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 H11   d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92360" y="4653000"/>
            <a:ext cx="244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te nomina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on commune des  2 piè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88000" y="2637000"/>
            <a:ext cx="244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te nomina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on commune des  2 piè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 remplir le tableau 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ification de la c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788000" y="3860640"/>
            <a:ext cx="4101840" cy="936720"/>
            <a:chOff x="4788000" y="3860640"/>
            <a:chExt cx="4101840" cy="936720"/>
          </a:xfrm>
        </p:grpSpPr>
        <p:sp>
          <p:nvSpPr>
            <p:cNvPr id="48" name=""/>
            <p:cNvSpPr/>
            <p:nvPr/>
          </p:nvSpPr>
          <p:spPr>
            <a:xfrm>
              <a:off x="4788000" y="3860640"/>
              <a:ext cx="4101840" cy="936720"/>
            </a:xfrm>
            <a:custGeom>
              <a:avLst/>
              <a:gdLst/>
              <a:ahLst/>
              <a:rect l="l" t="t" r="r" b="b"/>
              <a:pathLst>
                <a:path w="1968" h="912">
                  <a:moveTo>
                    <a:pt x="0" y="48"/>
                  </a:moveTo>
                  <a:lnTo>
                    <a:pt x="0" y="912"/>
                  </a:lnTo>
                  <a:lnTo>
                    <a:pt x="1968" y="912"/>
                  </a:lnTo>
                  <a:lnTo>
                    <a:pt x="1968" y="0"/>
                  </a:lnTo>
                  <a:lnTo>
                    <a:pt x="1680" y="0"/>
                  </a:lnTo>
                  <a:lnTo>
                    <a:pt x="1680" y="624"/>
                  </a:lnTo>
                  <a:lnTo>
                    <a:pt x="240" y="624"/>
                  </a:lnTo>
                  <a:lnTo>
                    <a:pt x="24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89080" y="4007880"/>
              <a:ext cx="400320" cy="19728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6531120" y="3360600"/>
            <a:ext cx="18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315280" y="2111040"/>
            <a:ext cx="0" cy="172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291280" y="2111040"/>
            <a:ext cx="0" cy="55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1280" y="218124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99200" y="169704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59640" y="1700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292720" y="3284640"/>
            <a:ext cx="2432160" cy="1241280"/>
            <a:chOff x="5292720" y="3284640"/>
            <a:chExt cx="2432160" cy="1241280"/>
          </a:xfrm>
        </p:grpSpPr>
        <p:sp>
          <p:nvSpPr>
            <p:cNvPr id="57" name=""/>
            <p:cNvSpPr/>
            <p:nvPr/>
          </p:nvSpPr>
          <p:spPr>
            <a:xfrm>
              <a:off x="5292720" y="3284640"/>
              <a:ext cx="2432160" cy="1241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5280" y="3422520"/>
              <a:ext cx="463680" cy="27576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726320" y="364500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96360" y="407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292720" y="2479320"/>
            <a:ext cx="0" cy="7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2685960"/>
            <a:ext cx="2432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40480" y="220356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22050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724880" y="2479320"/>
            <a:ext cx="0" cy="7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628640"/>
            <a:ext cx="3887640" cy="245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é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scrivez la cote toléranc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cart Supérieu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mension maxima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cart Supérieu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mension minima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20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 H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87640" y="292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,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3284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3716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149720"/>
            <a:ext cx="3887640" cy="245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scrivez la cote toléranc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cart Supérieu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mension maxima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cart Supérieu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mension minima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45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d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00360" y="501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87640" y="54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,9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80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623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,8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071720" y="2422440"/>
          <a:ext cx="7796160" cy="42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422440"/>
                    <a:ext cx="779616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" name=""/>
          <p:cNvGrpSpPr/>
          <p:nvPr/>
        </p:nvGrpSpPr>
        <p:grpSpPr>
          <a:xfrm>
            <a:off x="8220240" y="3529080"/>
            <a:ext cx="815760" cy="1595520"/>
            <a:chOff x="8220240" y="3529080"/>
            <a:chExt cx="815760" cy="1595520"/>
          </a:xfrm>
        </p:grpSpPr>
        <p:sp>
          <p:nvSpPr>
            <p:cNvPr id="81" name=""/>
            <p:cNvSpPr/>
            <p:nvPr/>
          </p:nvSpPr>
          <p:spPr>
            <a:xfrm flipV="1">
              <a:off x="8839080" y="3529080"/>
              <a:ext cx="0" cy="15955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220240" y="3819600"/>
              <a:ext cx="8157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 Narrow"/>
                </a:rPr>
                <a:t>Serrage MAXI = 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147240"/>
            <a:ext cx="81230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ment remplir le tableau 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13040" y="3544920"/>
            <a:ext cx="576360" cy="55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95840" y="280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01840" y="4389480"/>
            <a:ext cx="576360" cy="73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é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3313080"/>
            <a:ext cx="1730520" cy="2665440"/>
            <a:chOff x="0" y="3313080"/>
            <a:chExt cx="1730520" cy="2665440"/>
          </a:xfrm>
        </p:grpSpPr>
        <p:sp>
          <p:nvSpPr>
            <p:cNvPr id="88" name=""/>
            <p:cNvSpPr/>
            <p:nvPr/>
          </p:nvSpPr>
          <p:spPr>
            <a:xfrm>
              <a:off x="0" y="4519440"/>
              <a:ext cx="116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te nomin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3800" y="44798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7680" y="3916440"/>
              <a:ext cx="5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,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35080" y="3313080"/>
              <a:ext cx="58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,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2920" y="5032440"/>
              <a:ext cx="5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4,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58760" y="5610240"/>
              <a:ext cx="5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4,8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65520" y="3368520"/>
            <a:ext cx="6146640" cy="1943280"/>
            <a:chOff x="2765520" y="3368520"/>
            <a:chExt cx="6146640" cy="1943280"/>
          </a:xfrm>
        </p:grpSpPr>
        <p:sp>
          <p:nvSpPr>
            <p:cNvPr id="95" name=""/>
            <p:cNvSpPr/>
            <p:nvPr/>
          </p:nvSpPr>
          <p:spPr>
            <a:xfrm>
              <a:off x="2765520" y="5127480"/>
              <a:ext cx="614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95760" y="3543480"/>
              <a:ext cx="520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18160" y="3368520"/>
              <a:ext cx="75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,198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81360" y="4389480"/>
              <a:ext cx="5243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62720" y="4195800"/>
              <a:ext cx="75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,05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87920" y="4943520"/>
              <a:ext cx="757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4,92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30640" y="4106880"/>
              <a:ext cx="389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43720" y="3873600"/>
              <a:ext cx="75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,1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618320" y="3608280"/>
            <a:ext cx="755640" cy="780840"/>
            <a:chOff x="7618320" y="3608280"/>
            <a:chExt cx="755640" cy="780840"/>
          </a:xfrm>
        </p:grpSpPr>
        <p:sp>
          <p:nvSpPr>
            <p:cNvPr id="104" name=""/>
            <p:cNvSpPr/>
            <p:nvPr/>
          </p:nvSpPr>
          <p:spPr>
            <a:xfrm flipV="1">
              <a:off x="7891560" y="4098600"/>
              <a:ext cx="0" cy="29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18320" y="3608280"/>
              <a:ext cx="75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 Narrow"/>
                </a:rPr>
                <a:t>Serrage MINI =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 Narrow"/>
                </a:rPr>
                <a:t> 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36440" y="2117880"/>
            <a:ext cx="1373400" cy="1471320"/>
            <a:chOff x="136440" y="2117880"/>
            <a:chExt cx="1373400" cy="1471320"/>
          </a:xfrm>
        </p:grpSpPr>
        <p:sp>
          <p:nvSpPr>
            <p:cNvPr id="107" name=""/>
            <p:cNvSpPr/>
            <p:nvPr/>
          </p:nvSpPr>
          <p:spPr>
            <a:xfrm>
              <a:off x="136440" y="2225520"/>
              <a:ext cx="1373400" cy="1363680"/>
            </a:xfrm>
            <a:prstGeom prst="downArrowCallout">
              <a:avLst>
                <a:gd name="adj1" fmla="val 12721"/>
                <a:gd name="adj2" fmla="val 12412"/>
                <a:gd name="adj3" fmla="val 16579"/>
                <a:gd name="adj4" fmla="val 6763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aduer le graphique avec une échelle permettant la représentation de toutes les valeu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2520" y="2117880"/>
              <a:ext cx="357120" cy="32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30320" y="1160640"/>
            <a:ext cx="2827440" cy="1322280"/>
            <a:chOff x="1030320" y="1160640"/>
            <a:chExt cx="2827440" cy="1322280"/>
          </a:xfrm>
        </p:grpSpPr>
        <p:sp>
          <p:nvSpPr>
            <p:cNvPr id="110" name=""/>
            <p:cNvSpPr/>
            <p:nvPr/>
          </p:nvSpPr>
          <p:spPr>
            <a:xfrm>
              <a:off x="1030320" y="1300320"/>
              <a:ext cx="2827440" cy="1182600"/>
            </a:xfrm>
            <a:prstGeom prst="downArrowCallout">
              <a:avLst>
                <a:gd name="adj1" fmla="val 23490"/>
                <a:gd name="adj2" fmla="val 27052"/>
                <a:gd name="adj3" fmla="val 16644"/>
                <a:gd name="adj4" fmla="val 72213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résenter les IT et les dimensions de l’arbre et de l’alésage sous forme d’un rectangle couvrant la zone possible pour les dimens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98440" y="1160640"/>
              <a:ext cx="357480" cy="32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725560" y="781200"/>
            <a:ext cx="2984400" cy="1766880"/>
            <a:chOff x="2725560" y="781200"/>
            <a:chExt cx="2984400" cy="1766880"/>
          </a:xfrm>
        </p:grpSpPr>
        <p:sp>
          <p:nvSpPr>
            <p:cNvPr id="113" name=""/>
            <p:cNvSpPr/>
            <p:nvPr/>
          </p:nvSpPr>
          <p:spPr>
            <a:xfrm>
              <a:off x="2882880" y="893880"/>
              <a:ext cx="2827080" cy="1654200"/>
            </a:xfrm>
            <a:prstGeom prst="downArrowCallout">
              <a:avLst>
                <a:gd name="adj1" fmla="val 21586"/>
                <a:gd name="adj2" fmla="val 21062"/>
                <a:gd name="adj3" fmla="val 16579"/>
                <a:gd name="adj4" fmla="val 1648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uis Repérer les positions de ES,EI,es et 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25560" y="781200"/>
              <a:ext cx="357120" cy="32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803840" y="1233360"/>
            <a:ext cx="2249280" cy="1338120"/>
            <a:chOff x="4803840" y="1233360"/>
            <a:chExt cx="2249280" cy="1338120"/>
          </a:xfrm>
        </p:grpSpPr>
        <p:sp>
          <p:nvSpPr>
            <p:cNvPr id="116" name=""/>
            <p:cNvSpPr/>
            <p:nvPr/>
          </p:nvSpPr>
          <p:spPr>
            <a:xfrm>
              <a:off x="4803840" y="1362240"/>
              <a:ext cx="2249280" cy="1209240"/>
            </a:xfrm>
            <a:prstGeom prst="downArrowCallout">
              <a:avLst>
                <a:gd name="adj1" fmla="val 23494"/>
                <a:gd name="adj2" fmla="val 22924"/>
                <a:gd name="adj3" fmla="val 16579"/>
                <a:gd name="adj4" fmla="val 6047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orter les valeurs correspondantes aux dimensions limites des arbres et alésag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90960" y="1233360"/>
              <a:ext cx="357480" cy="30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72240" y="173160"/>
            <a:ext cx="1379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RES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6880" y="690480"/>
            <a:ext cx="863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33560" y="3321000"/>
            <a:ext cx="1874520" cy="1938240"/>
            <a:chOff x="1933560" y="3321000"/>
            <a:chExt cx="1874520" cy="1938240"/>
          </a:xfrm>
        </p:grpSpPr>
        <p:sp>
          <p:nvSpPr>
            <p:cNvPr id="121" name=""/>
            <p:cNvSpPr/>
            <p:nvPr/>
          </p:nvSpPr>
          <p:spPr>
            <a:xfrm>
              <a:off x="3389040" y="3321000"/>
              <a:ext cx="3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6040" y="3835080"/>
              <a:ext cx="39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i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33560" y="417960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8760" y="489096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389720" y="1236600"/>
            <a:ext cx="1616040" cy="1353960"/>
            <a:chOff x="7389720" y="1236600"/>
            <a:chExt cx="1616040" cy="1353960"/>
          </a:xfrm>
        </p:grpSpPr>
        <p:sp>
          <p:nvSpPr>
            <p:cNvPr id="126" name=""/>
            <p:cNvSpPr/>
            <p:nvPr/>
          </p:nvSpPr>
          <p:spPr>
            <a:xfrm>
              <a:off x="7389720" y="1366920"/>
              <a:ext cx="1616040" cy="1223640"/>
            </a:xfrm>
            <a:prstGeom prst="downArrowCallout">
              <a:avLst>
                <a:gd name="adj1" fmla="val 16681"/>
                <a:gd name="adj2" fmla="val 16276"/>
                <a:gd name="adj3" fmla="val 16579"/>
                <a:gd name="adj4" fmla="val 6047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résenter les Jeux ou Serrages MAXI et MIN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52000" y="1236600"/>
              <a:ext cx="256680" cy="309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6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 remplir le tableau 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 des je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Calcul des jeux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 IT se chevauchent ils ?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quel type d’ajustement s’agit il ?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7002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79640" y="12682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rement dit peut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plir le tabl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0:04:02Z</dcterms:created>
  <dc:creator>marc.boule</dc:creator>
  <dc:description/>
  <dc:language>en-US</dc:language>
  <cp:lastModifiedBy>marc.boule</cp:lastModifiedBy>
  <dcterms:modified xsi:type="dcterms:W3CDTF">2004-12-16T14:28:29Z</dcterms:modified>
  <cp:revision>6</cp:revision>
  <dc:subject/>
  <dc:title>Calculer un ajustement</dc:title>
</cp:coreProperties>
</file>