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DDC5-D2A2-4E21-A0C1-DB945B856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C6A3-DCC5-4367-9C28-129C918A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EEED-F84B-4250-8C49-6CBB408D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2B64-4F90-4382-B5F6-841508E5C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943C-0034-4733-BD8B-C00149022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C396-4848-4F3F-B8FF-F17DF209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CF22-B99C-4C8D-A759-AACDC943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50FE-747A-4EF0-88A0-B129BC0E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AA66-A8E6-4E13-8AE9-646D7C14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3D78-2B02-4DBD-9023-22F223C0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36B0-2044-47F1-B5D8-3EB7549A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A80A-304C-4841-847E-94B333DD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777F-E6F7-4F13-AE8E-6B857976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6ABB-FE4B-4977-BF74-35B8C9D8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4299-09A2-480F-A407-BAADEF42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03FB-1F0B-4C9D-9787-E6BAD9FF4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2866-C3BB-4F41-A9F0-56CB3BEDC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F6D3-9B02-4593-9DDD-5DCA501A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401A-B964-4BA4-BD96-70B076CB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D24D-5D0C-4DDE-88E4-315C80B9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F9CD-426F-4550-A718-09658831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0B52-F87F-4A4A-8EED-97962278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1218-D835-4F44-8382-7C1B1FC0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1E4B-B869-41A7-BFAE-C60E1C51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8B87-C4F4-4BB5-8D24-8C7196C2EA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FF43-E035-4293-BD5E-6A89794657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DOCUMENTS%20RESSOURCES/DRES1-Ajustements.pdf" TargetMode="External"/><Relationship Id="rId2" Type="http://schemas.openxmlformats.org/officeDocument/2006/relationships/hyperlink" Target="file:///../image%20video/liaison/Mod&#233;lisation%20des%20liaisons.htm" TargetMode="External"/><Relationship Id="rId3" Type="http://schemas.openxmlformats.org/officeDocument/2006/relationships/hyperlink" Target="file:///../DOCUMENTS%20RESSOURCES/DRES4-coussinets.pdf" TargetMode="External"/><Relationship Id="rId4" Type="http://schemas.openxmlformats.org/officeDocument/2006/relationships/hyperlink" Target="file:///../DOCUMENTS%20RESSOURCES/DRES5-Extrait%20iso2768.pdf" TargetMode="Externa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28609" t="20475" r="9376" b="17522"/>
          <a:stretch/>
        </p:blipFill>
        <p:spPr>
          <a:xfrm>
            <a:off x="395280" y="3573360"/>
            <a:ext cx="2987640" cy="22399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Mini pince de Préhensi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cadémie de BESANCON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Épreuve 2006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380880" y="6172200"/>
            <a:ext cx="457200" cy="5032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3280"/>
              <a:gd name="textAreaBottom" fmla="*/ 473760 h 503280"/>
            </a:gdLst>
            <a:ahLst/>
            <a:rect l="textAreaLeft" t="textAreaTop" r="textAreaRight" b="textAreaBottom"/>
            <a:pathLst>
              <a:path w="21600" h="23775">
                <a:moveTo>
                  <a:pt x="0" y="0"/>
                </a:moveTo>
                <a:lnTo>
                  <a:pt x="21600" y="0"/>
                </a:lnTo>
                <a:lnTo>
                  <a:pt x="21600" y="23775"/>
                </a:lnTo>
                <a:lnTo>
                  <a:pt x="0" y="23775"/>
                </a:lnTo>
                <a:close/>
              </a:path>
              <a:path fill="lightenLess" w="21600" h="237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75">
                <a:moveTo>
                  <a:pt x="21600" y="0"/>
                </a:moveTo>
                <a:lnTo>
                  <a:pt x="21600" y="23775"/>
                </a:lnTo>
                <a:lnTo>
                  <a:pt x="20200" y="22375"/>
                </a:lnTo>
                <a:lnTo>
                  <a:pt x="20200" y="1400"/>
                </a:lnTo>
                <a:close/>
              </a:path>
              <a:path fill="darkenLess" w="21600" h="23775">
                <a:moveTo>
                  <a:pt x="21600" y="23775"/>
                </a:moveTo>
                <a:lnTo>
                  <a:pt x="0" y="23775"/>
                </a:lnTo>
                <a:lnTo>
                  <a:pt x="1400" y="22375"/>
                </a:lnTo>
                <a:lnTo>
                  <a:pt x="20200" y="22375"/>
                </a:lnTo>
                <a:close/>
              </a:path>
              <a:path fill="lighten" w="21600" h="23775">
                <a:moveTo>
                  <a:pt x="0" y="237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75"/>
                </a:lnTo>
                <a:close/>
              </a:path>
              <a:path fill="darken" w="21600" h="23775">
                <a:moveTo>
                  <a:pt x="3794" y="4881"/>
                </a:moveTo>
                <a:lnTo>
                  <a:pt x="17806" y="11888"/>
                </a:lnTo>
                <a:lnTo>
                  <a:pt x="3794" y="18894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92720" y="1484280"/>
            <a:ext cx="3657600" cy="1495800"/>
          </a:xfrm>
          <a:prstGeom prst="rect">
            <a:avLst/>
          </a:prstGeom>
          <a:solidFill>
            <a:srgbClr val="00e4a8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BEP  MP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Épreuve E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Analyse et exploi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e données techn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24360" y="3933720"/>
            <a:ext cx="4897440" cy="2376720"/>
          </a:xfrm>
          <a:prstGeom prst="rect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entury Gothic"/>
              </a:rPr>
              <a:t>Compétences évalué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1.1 :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Identifier, décoder,exploiter les données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techniques relatives à une piè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1.2 :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Identifier, exploiter les données techniques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relatives à un ensem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avoirs technologiques associé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S1 :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Construction et analy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S1.1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 -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 Techniques et outils de représ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S1.2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 -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 Analy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3068640"/>
            <a:ext cx="533520" cy="792000"/>
          </a:xfrm>
          <a:prstGeom prst="downArrow">
            <a:avLst>
              <a:gd name="adj1" fmla="val 50000"/>
              <a:gd name="adj2" fmla="val 3711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mmai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95280" y="1844640"/>
            <a:ext cx="4949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e en sit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La micro p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La mini p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Problémati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nctionn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4" action="ppaction://hlinksldjump"/>
              </a:rPr>
              <a:t>Dossier res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>
            <a:hlinkClick r:id="" action="ppaction://hlinkshowjump?jump=previousslide"/>
          </p:cNvPr>
          <p:cNvSpPr/>
          <p:nvPr/>
        </p:nvSpPr>
        <p:spPr>
          <a:xfrm>
            <a:off x="324000" y="623736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Mise en situation</a:t>
            </a:r>
            <a:br>
              <a:rPr sz="4800"/>
            </a:b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2133720"/>
            <a:ext cx="273708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 micro pince est un produit développé afin d’alimenter en pièces très petites des unités de montages spécialisé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n fonctionnement est simple, l’énergie utilisée est l’air comprimé. Son utilisation et son fonctionnement sont illustrés dans l’animation suiv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2484360" y="6093000"/>
            <a:ext cx="515880" cy="496800"/>
          </a:xfrm>
          <a:custGeom>
            <a:avLst/>
            <a:gdLst>
              <a:gd name="textAreaLeft" fmla="*/ 32040 w 515880"/>
              <a:gd name="textAreaRight" fmla="*/ 483840 w 515880"/>
              <a:gd name="textAreaTop" fmla="*/ 32040 h 496800"/>
              <a:gd name="textAreaBottom" fmla="*/ 464760 h 496800"/>
            </a:gdLst>
            <a:ahLst/>
            <a:rect l="textAreaLeft" t="textAreaTop" r="textAreaRight" b="textAreaBottom"/>
            <a:pathLst>
              <a:path w="22429" h="21600">
                <a:moveTo>
                  <a:pt x="0" y="0"/>
                </a:moveTo>
                <a:lnTo>
                  <a:pt x="22429" y="0"/>
                </a:lnTo>
                <a:lnTo>
                  <a:pt x="22429" y="21600"/>
                </a:lnTo>
                <a:lnTo>
                  <a:pt x="0" y="21600"/>
                </a:lnTo>
                <a:close/>
              </a:path>
              <a:path fill="lightenLess" w="22429" h="21600">
                <a:moveTo>
                  <a:pt x="0" y="0"/>
                </a:moveTo>
                <a:lnTo>
                  <a:pt x="22429" y="0"/>
                </a:lnTo>
                <a:lnTo>
                  <a:pt x="21029" y="1400"/>
                </a:lnTo>
                <a:lnTo>
                  <a:pt x="1400" y="1400"/>
                </a:lnTo>
                <a:close/>
              </a:path>
              <a:path fill="darken" w="22429" h="21600">
                <a:moveTo>
                  <a:pt x="22429" y="0"/>
                </a:moveTo>
                <a:lnTo>
                  <a:pt x="22429" y="21600"/>
                </a:lnTo>
                <a:lnTo>
                  <a:pt x="21029" y="20200"/>
                </a:lnTo>
                <a:lnTo>
                  <a:pt x="21029" y="1400"/>
                </a:lnTo>
                <a:close/>
              </a:path>
              <a:path fill="darkenLess" w="22429" h="21600">
                <a:moveTo>
                  <a:pt x="224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29" y="20200"/>
                </a:lnTo>
                <a:close/>
              </a:path>
              <a:path fill="lighten" w="224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29" h="21600">
                <a:moveTo>
                  <a:pt x="4208" y="3794"/>
                </a:moveTo>
                <a:lnTo>
                  <a:pt x="18221" y="10800"/>
                </a:lnTo>
                <a:lnTo>
                  <a:pt x="4208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755640" y="6093000"/>
            <a:ext cx="1728720" cy="502920"/>
          </a:xfrm>
          <a:custGeom>
            <a:avLst/>
            <a:gdLst>
              <a:gd name="textAreaLeft" fmla="*/ 32400 w 1728720"/>
              <a:gd name="textAreaRight" fmla="*/ 1696320 w 17287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74209" h="21600">
                <a:moveTo>
                  <a:pt x="0" y="0"/>
                </a:moveTo>
                <a:lnTo>
                  <a:pt x="74209" y="0"/>
                </a:lnTo>
                <a:lnTo>
                  <a:pt x="74209" y="21600"/>
                </a:lnTo>
                <a:lnTo>
                  <a:pt x="0" y="21600"/>
                </a:lnTo>
                <a:close/>
              </a:path>
              <a:path fill="lightenLess" w="74209" h="21600">
                <a:moveTo>
                  <a:pt x="0" y="0"/>
                </a:moveTo>
                <a:lnTo>
                  <a:pt x="74209" y="0"/>
                </a:lnTo>
                <a:lnTo>
                  <a:pt x="72810" y="1400"/>
                </a:lnTo>
                <a:lnTo>
                  <a:pt x="1400" y="1400"/>
                </a:lnTo>
                <a:close/>
              </a:path>
              <a:path fill="darken" w="74209" h="21600">
                <a:moveTo>
                  <a:pt x="74209" y="0"/>
                </a:moveTo>
                <a:lnTo>
                  <a:pt x="74209" y="21600"/>
                </a:lnTo>
                <a:lnTo>
                  <a:pt x="72810" y="20200"/>
                </a:lnTo>
                <a:lnTo>
                  <a:pt x="72810" y="1400"/>
                </a:lnTo>
                <a:close/>
              </a:path>
              <a:path fill="darkenLess" w="74209" h="21600">
                <a:moveTo>
                  <a:pt x="74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810" y="20200"/>
                </a:lnTo>
                <a:close/>
              </a:path>
              <a:path fill="lighten" w="74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tour Somm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657600" y="2057400"/>
            <a:ext cx="468468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se en Situation</a:t>
            </a:r>
            <a:br>
              <a:rPr sz="4400"/>
            </a:b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La mini pince de préhens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2057400"/>
            <a:ext cx="30463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modèle d’étude est celui de la mini pince, c’est le  plus grand modèle de la gamme . Son fonctionnement est identique à celui de la micro pince. La pression de service est d’environ 2 bars.Sur l’animation ci-jointe , on comprend le principe de fonctionne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6227640" y="616572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10800"/>
                </a:moveTo>
                <a:lnTo>
                  <a:pt x="17845" y="3794"/>
                </a:lnTo>
                <a:lnTo>
                  <a:pt x="17845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16240" cy="497160"/>
          </a:xfrm>
          <a:custGeom>
            <a:avLst/>
            <a:gdLst>
              <a:gd name="textAreaLeft" fmla="*/ 32040 w 516240"/>
              <a:gd name="textAreaRight" fmla="*/ 484200 w 516240"/>
              <a:gd name="textAreaTop" fmla="*/ 32040 h 497160"/>
              <a:gd name="textAreaBottom" fmla="*/ 465120 h 497160"/>
            </a:gdLst>
            <a:ahLst/>
            <a:rect l="textAreaLeft" t="textAreaTop" r="textAreaRight" b="textAreaBottom"/>
            <a:pathLst>
              <a:path w="22428" h="21600">
                <a:moveTo>
                  <a:pt x="0" y="0"/>
                </a:moveTo>
                <a:lnTo>
                  <a:pt x="22428" y="0"/>
                </a:lnTo>
                <a:lnTo>
                  <a:pt x="22428" y="21600"/>
                </a:lnTo>
                <a:lnTo>
                  <a:pt x="0" y="21600"/>
                </a:lnTo>
                <a:close/>
              </a:path>
              <a:path fill="lightenLess" w="22428" h="21600">
                <a:moveTo>
                  <a:pt x="0" y="0"/>
                </a:moveTo>
                <a:lnTo>
                  <a:pt x="22428" y="0"/>
                </a:lnTo>
                <a:lnTo>
                  <a:pt x="21028" y="1400"/>
                </a:lnTo>
                <a:lnTo>
                  <a:pt x="1400" y="1400"/>
                </a:lnTo>
                <a:close/>
              </a:path>
              <a:path fill="darken" w="22428" h="21600">
                <a:moveTo>
                  <a:pt x="22428" y="0"/>
                </a:moveTo>
                <a:lnTo>
                  <a:pt x="22428" y="21600"/>
                </a:lnTo>
                <a:lnTo>
                  <a:pt x="21028" y="20200"/>
                </a:lnTo>
                <a:lnTo>
                  <a:pt x="21028" y="1400"/>
                </a:lnTo>
                <a:close/>
              </a:path>
              <a:path fill="darkenLess" w="22428" h="21600">
                <a:moveTo>
                  <a:pt x="22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28" y="20200"/>
                </a:lnTo>
                <a:close/>
              </a:path>
              <a:path fill="lighten" w="22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28" h="21600">
                <a:moveTo>
                  <a:pt x="4208" y="3794"/>
                </a:moveTo>
                <a:lnTo>
                  <a:pt x="18221" y="10800"/>
                </a:lnTo>
                <a:lnTo>
                  <a:pt x="4208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6732720" y="6165720"/>
            <a:ext cx="1728720" cy="503280"/>
          </a:xfrm>
          <a:custGeom>
            <a:avLst/>
            <a:gdLst>
              <a:gd name="textAreaLeft" fmla="*/ 32400 w 1728720"/>
              <a:gd name="textAreaRight" fmla="*/ 1696320 w 1728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74156" h="21600">
                <a:moveTo>
                  <a:pt x="0" y="0"/>
                </a:moveTo>
                <a:lnTo>
                  <a:pt x="74156" y="0"/>
                </a:lnTo>
                <a:lnTo>
                  <a:pt x="74156" y="21600"/>
                </a:lnTo>
                <a:lnTo>
                  <a:pt x="0" y="21600"/>
                </a:lnTo>
                <a:close/>
              </a:path>
              <a:path fill="lightenLess" w="74156" h="21600">
                <a:moveTo>
                  <a:pt x="0" y="0"/>
                </a:moveTo>
                <a:lnTo>
                  <a:pt x="74156" y="0"/>
                </a:lnTo>
                <a:lnTo>
                  <a:pt x="72756" y="1400"/>
                </a:lnTo>
                <a:lnTo>
                  <a:pt x="1400" y="1400"/>
                </a:lnTo>
                <a:close/>
              </a:path>
              <a:path fill="darken" w="74156" h="21600">
                <a:moveTo>
                  <a:pt x="74156" y="0"/>
                </a:moveTo>
                <a:lnTo>
                  <a:pt x="74156" y="21600"/>
                </a:lnTo>
                <a:lnTo>
                  <a:pt x="72756" y="20200"/>
                </a:lnTo>
                <a:lnTo>
                  <a:pt x="72756" y="1400"/>
                </a:lnTo>
                <a:close/>
              </a:path>
              <a:path fill="darkenLess" w="74156" h="21600">
                <a:moveTo>
                  <a:pt x="741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756" y="20200"/>
                </a:lnTo>
                <a:close/>
              </a:path>
              <a:path fill="lighten" w="741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tour Somm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657600" y="2057400"/>
            <a:ext cx="476100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nctionn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81480" y="1752120"/>
            <a:ext cx="38102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 fonctionnement de la micro pince et celui de la mini pince sont  identiques , la pression de service est inférieure à celle de la mini pi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4443480" cy="3579840"/>
          </a:xfrm>
          <a:prstGeom prst="rect">
            <a:avLst/>
          </a:prstGeom>
          <a:ln w="0">
            <a:noFill/>
          </a:ln>
        </p:spPr>
      </p:pic>
      <p:sp>
        <p:nvSpPr>
          <p:cNvPr id="122" name="">
            <a:hlinkClick r:id="" action="ppaction://hlinkshowjump?jump=previousslide"/>
          </p:cNvPr>
          <p:cNvSpPr/>
          <p:nvPr/>
        </p:nvSpPr>
        <p:spPr>
          <a:xfrm>
            <a:off x="6227640" y="616572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10800"/>
                </a:moveTo>
                <a:lnTo>
                  <a:pt x="17845" y="3794"/>
                </a:lnTo>
                <a:lnTo>
                  <a:pt x="17845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16240" cy="497160"/>
          </a:xfrm>
          <a:custGeom>
            <a:avLst/>
            <a:gdLst>
              <a:gd name="textAreaLeft" fmla="*/ 32040 w 516240"/>
              <a:gd name="textAreaRight" fmla="*/ 484200 w 516240"/>
              <a:gd name="textAreaTop" fmla="*/ 32040 h 497160"/>
              <a:gd name="textAreaBottom" fmla="*/ 465120 h 497160"/>
            </a:gdLst>
            <a:ahLst/>
            <a:rect l="textAreaLeft" t="textAreaTop" r="textAreaRight" b="textAreaBottom"/>
            <a:pathLst>
              <a:path w="22428" h="21600">
                <a:moveTo>
                  <a:pt x="0" y="0"/>
                </a:moveTo>
                <a:lnTo>
                  <a:pt x="22428" y="0"/>
                </a:lnTo>
                <a:lnTo>
                  <a:pt x="22428" y="21600"/>
                </a:lnTo>
                <a:lnTo>
                  <a:pt x="0" y="21600"/>
                </a:lnTo>
                <a:close/>
              </a:path>
              <a:path fill="lightenLess" w="22428" h="21600">
                <a:moveTo>
                  <a:pt x="0" y="0"/>
                </a:moveTo>
                <a:lnTo>
                  <a:pt x="22428" y="0"/>
                </a:lnTo>
                <a:lnTo>
                  <a:pt x="21028" y="1400"/>
                </a:lnTo>
                <a:lnTo>
                  <a:pt x="1400" y="1400"/>
                </a:lnTo>
                <a:close/>
              </a:path>
              <a:path fill="darken" w="22428" h="21600">
                <a:moveTo>
                  <a:pt x="22428" y="0"/>
                </a:moveTo>
                <a:lnTo>
                  <a:pt x="22428" y="21600"/>
                </a:lnTo>
                <a:lnTo>
                  <a:pt x="21028" y="20200"/>
                </a:lnTo>
                <a:lnTo>
                  <a:pt x="21028" y="1400"/>
                </a:lnTo>
                <a:close/>
              </a:path>
              <a:path fill="darkenLess" w="22428" h="21600">
                <a:moveTo>
                  <a:pt x="22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28" y="20200"/>
                </a:lnTo>
                <a:close/>
              </a:path>
              <a:path fill="lighten" w="22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28" h="21600">
                <a:moveTo>
                  <a:pt x="4208" y="3794"/>
                </a:moveTo>
                <a:lnTo>
                  <a:pt x="18221" y="10800"/>
                </a:lnTo>
                <a:lnTo>
                  <a:pt x="4208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32720" y="6165720"/>
            <a:ext cx="1728720" cy="503280"/>
          </a:xfrm>
          <a:custGeom>
            <a:avLst/>
            <a:gdLst>
              <a:gd name="textAreaLeft" fmla="*/ 32400 w 1728720"/>
              <a:gd name="textAreaRight" fmla="*/ 1696320 w 1728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74156" h="21600">
                <a:moveTo>
                  <a:pt x="0" y="0"/>
                </a:moveTo>
                <a:lnTo>
                  <a:pt x="74156" y="0"/>
                </a:lnTo>
                <a:lnTo>
                  <a:pt x="74156" y="21600"/>
                </a:lnTo>
                <a:lnTo>
                  <a:pt x="0" y="21600"/>
                </a:lnTo>
                <a:close/>
              </a:path>
              <a:path fill="lightenLess" w="74156" h="21600">
                <a:moveTo>
                  <a:pt x="0" y="0"/>
                </a:moveTo>
                <a:lnTo>
                  <a:pt x="74156" y="0"/>
                </a:lnTo>
                <a:lnTo>
                  <a:pt x="72756" y="1400"/>
                </a:lnTo>
                <a:lnTo>
                  <a:pt x="1400" y="1400"/>
                </a:lnTo>
                <a:close/>
              </a:path>
              <a:path fill="darken" w="74156" h="21600">
                <a:moveTo>
                  <a:pt x="74156" y="0"/>
                </a:moveTo>
                <a:lnTo>
                  <a:pt x="74156" y="21600"/>
                </a:lnTo>
                <a:lnTo>
                  <a:pt x="72756" y="20200"/>
                </a:lnTo>
                <a:lnTo>
                  <a:pt x="72756" y="1400"/>
                </a:lnTo>
                <a:close/>
              </a:path>
              <a:path fill="darkenLess" w="74156" h="21600">
                <a:moveTo>
                  <a:pt x="741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756" y="20200"/>
                </a:lnTo>
                <a:close/>
              </a:path>
              <a:path fill="lighten" w="741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tour Somm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594360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nctionnement de la micro pi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lématique de Conce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1828800"/>
            <a:ext cx="4321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L’assemblage du couvercle sur le corps se fait actuellement par 3 vis, Cette solution ne permet pas d’assurer l’assemblage en cas d’augmentation de la pression. On propose donc de réaliser cet assemblage en augmentant le nombre de vis. Celui-ci passe à quatre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6227640" y="616572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10800"/>
                </a:moveTo>
                <a:lnTo>
                  <a:pt x="17845" y="3794"/>
                </a:lnTo>
                <a:lnTo>
                  <a:pt x="17845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16240" cy="497160"/>
          </a:xfrm>
          <a:custGeom>
            <a:avLst/>
            <a:gdLst>
              <a:gd name="textAreaLeft" fmla="*/ 32040 w 516240"/>
              <a:gd name="textAreaRight" fmla="*/ 484200 w 516240"/>
              <a:gd name="textAreaTop" fmla="*/ 32040 h 497160"/>
              <a:gd name="textAreaBottom" fmla="*/ 465120 h 497160"/>
            </a:gdLst>
            <a:ahLst/>
            <a:rect l="textAreaLeft" t="textAreaTop" r="textAreaRight" b="textAreaBottom"/>
            <a:pathLst>
              <a:path w="22428" h="21600">
                <a:moveTo>
                  <a:pt x="0" y="0"/>
                </a:moveTo>
                <a:lnTo>
                  <a:pt x="22428" y="0"/>
                </a:lnTo>
                <a:lnTo>
                  <a:pt x="22428" y="21600"/>
                </a:lnTo>
                <a:lnTo>
                  <a:pt x="0" y="21600"/>
                </a:lnTo>
                <a:close/>
              </a:path>
              <a:path fill="lightenLess" w="22428" h="21600">
                <a:moveTo>
                  <a:pt x="0" y="0"/>
                </a:moveTo>
                <a:lnTo>
                  <a:pt x="22428" y="0"/>
                </a:lnTo>
                <a:lnTo>
                  <a:pt x="21028" y="1400"/>
                </a:lnTo>
                <a:lnTo>
                  <a:pt x="1400" y="1400"/>
                </a:lnTo>
                <a:close/>
              </a:path>
              <a:path fill="darken" w="22428" h="21600">
                <a:moveTo>
                  <a:pt x="22428" y="0"/>
                </a:moveTo>
                <a:lnTo>
                  <a:pt x="22428" y="21600"/>
                </a:lnTo>
                <a:lnTo>
                  <a:pt x="21028" y="20200"/>
                </a:lnTo>
                <a:lnTo>
                  <a:pt x="21028" y="1400"/>
                </a:lnTo>
                <a:close/>
              </a:path>
              <a:path fill="darkenLess" w="22428" h="21600">
                <a:moveTo>
                  <a:pt x="22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28" y="20200"/>
                </a:lnTo>
                <a:close/>
              </a:path>
              <a:path fill="lighten" w="22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28" h="21600">
                <a:moveTo>
                  <a:pt x="4208" y="3794"/>
                </a:moveTo>
                <a:lnTo>
                  <a:pt x="18221" y="10800"/>
                </a:lnTo>
                <a:lnTo>
                  <a:pt x="4208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6732720" y="6165720"/>
            <a:ext cx="1728720" cy="503280"/>
          </a:xfrm>
          <a:custGeom>
            <a:avLst/>
            <a:gdLst>
              <a:gd name="textAreaLeft" fmla="*/ 32400 w 1728720"/>
              <a:gd name="textAreaRight" fmla="*/ 1696320 w 1728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74156" h="21600">
                <a:moveTo>
                  <a:pt x="0" y="0"/>
                </a:moveTo>
                <a:lnTo>
                  <a:pt x="74156" y="0"/>
                </a:lnTo>
                <a:lnTo>
                  <a:pt x="74156" y="21600"/>
                </a:lnTo>
                <a:lnTo>
                  <a:pt x="0" y="21600"/>
                </a:lnTo>
                <a:close/>
              </a:path>
              <a:path fill="lightenLess" w="74156" h="21600">
                <a:moveTo>
                  <a:pt x="0" y="0"/>
                </a:moveTo>
                <a:lnTo>
                  <a:pt x="74156" y="0"/>
                </a:lnTo>
                <a:lnTo>
                  <a:pt x="72756" y="1400"/>
                </a:lnTo>
                <a:lnTo>
                  <a:pt x="1400" y="1400"/>
                </a:lnTo>
                <a:close/>
              </a:path>
              <a:path fill="darken" w="74156" h="21600">
                <a:moveTo>
                  <a:pt x="74156" y="0"/>
                </a:moveTo>
                <a:lnTo>
                  <a:pt x="74156" y="21600"/>
                </a:lnTo>
                <a:lnTo>
                  <a:pt x="72756" y="20200"/>
                </a:lnTo>
                <a:lnTo>
                  <a:pt x="72756" y="1400"/>
                </a:lnTo>
                <a:close/>
              </a:path>
              <a:path fill="darkenLess" w="74156" h="21600">
                <a:moveTo>
                  <a:pt x="741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756" y="20200"/>
                </a:lnTo>
                <a:close/>
              </a:path>
              <a:path fill="lighten" w="741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tour Somm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rcRect l="29687" t="16666" r="10155" b="14584"/>
          <a:stretch/>
        </p:blipFill>
        <p:spPr>
          <a:xfrm>
            <a:off x="304920" y="2395440"/>
            <a:ext cx="3962160" cy="3395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867280" y="5105520"/>
            <a:ext cx="1729080" cy="503280"/>
          </a:xfrm>
          <a:custGeom>
            <a:avLst/>
            <a:gdLst>
              <a:gd name="textAreaLeft" fmla="*/ 32400 w 1729080"/>
              <a:gd name="textAreaRight" fmla="*/ 1696680 w 1729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74172" h="21600">
                <a:moveTo>
                  <a:pt x="0" y="0"/>
                </a:moveTo>
                <a:lnTo>
                  <a:pt x="74172" y="0"/>
                </a:lnTo>
                <a:lnTo>
                  <a:pt x="74172" y="21600"/>
                </a:lnTo>
                <a:lnTo>
                  <a:pt x="0" y="21600"/>
                </a:lnTo>
                <a:close/>
              </a:path>
              <a:path fill="lightenLess" w="74172" h="21600">
                <a:moveTo>
                  <a:pt x="0" y="0"/>
                </a:moveTo>
                <a:lnTo>
                  <a:pt x="74172" y="0"/>
                </a:lnTo>
                <a:lnTo>
                  <a:pt x="72772" y="1400"/>
                </a:lnTo>
                <a:lnTo>
                  <a:pt x="1400" y="1400"/>
                </a:lnTo>
                <a:close/>
              </a:path>
              <a:path fill="darken" w="74172" h="21600">
                <a:moveTo>
                  <a:pt x="74172" y="0"/>
                </a:moveTo>
                <a:lnTo>
                  <a:pt x="74172" y="21600"/>
                </a:lnTo>
                <a:lnTo>
                  <a:pt x="72772" y="20200"/>
                </a:lnTo>
                <a:lnTo>
                  <a:pt x="72772" y="1400"/>
                </a:lnTo>
                <a:close/>
              </a:path>
              <a:path fill="darkenLess" w="74172" h="21600">
                <a:moveTo>
                  <a:pt x="741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772" y="20200"/>
                </a:lnTo>
                <a:close/>
              </a:path>
              <a:path fill="lighten" w="741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ESSIN D’ENSEM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549360"/>
            <a:ext cx="68770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DEX Dossier Ressour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DRES 1 - Tableau des AJUS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ES 2 - Tableau des matériau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DRES 3 – Les liais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DRES 4 - Extrait Norme ISO 279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DRES 5 – Extrait Norme ISO 2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ES 6 AIDE – Représentation graphique des Ajus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>
            <a:hlinkClick r:id="" action="ppaction://hlinkshowjump?jump=previousslide"/>
          </p:cNvPr>
          <p:cNvSpPr/>
          <p:nvPr/>
        </p:nvSpPr>
        <p:spPr>
          <a:xfrm>
            <a:off x="179280" y="616572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10800"/>
                </a:moveTo>
                <a:lnTo>
                  <a:pt x="17845" y="3794"/>
                </a:lnTo>
                <a:lnTo>
                  <a:pt x="17845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5" action="ppaction://hlinksldjump"/>
          </p:cNvPr>
          <p:cNvSpPr/>
          <p:nvPr/>
        </p:nvSpPr>
        <p:spPr>
          <a:xfrm>
            <a:off x="826920" y="6165720"/>
            <a:ext cx="1729080" cy="503280"/>
          </a:xfrm>
          <a:custGeom>
            <a:avLst/>
            <a:gdLst>
              <a:gd name="textAreaLeft" fmla="*/ 32400 w 1729080"/>
              <a:gd name="textAreaRight" fmla="*/ 1696680 w 1729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74172" h="21600">
                <a:moveTo>
                  <a:pt x="0" y="0"/>
                </a:moveTo>
                <a:lnTo>
                  <a:pt x="74172" y="0"/>
                </a:lnTo>
                <a:lnTo>
                  <a:pt x="74172" y="21600"/>
                </a:lnTo>
                <a:lnTo>
                  <a:pt x="0" y="21600"/>
                </a:lnTo>
                <a:close/>
              </a:path>
              <a:path fill="lightenLess" w="74172" h="21600">
                <a:moveTo>
                  <a:pt x="0" y="0"/>
                </a:moveTo>
                <a:lnTo>
                  <a:pt x="74172" y="0"/>
                </a:lnTo>
                <a:lnTo>
                  <a:pt x="72772" y="1400"/>
                </a:lnTo>
                <a:lnTo>
                  <a:pt x="1400" y="1400"/>
                </a:lnTo>
                <a:close/>
              </a:path>
              <a:path fill="darken" w="74172" h="21600">
                <a:moveTo>
                  <a:pt x="74172" y="0"/>
                </a:moveTo>
                <a:lnTo>
                  <a:pt x="74172" y="21600"/>
                </a:lnTo>
                <a:lnTo>
                  <a:pt x="72772" y="20200"/>
                </a:lnTo>
                <a:lnTo>
                  <a:pt x="72772" y="1400"/>
                </a:lnTo>
                <a:close/>
              </a:path>
              <a:path fill="darkenLess" w="74172" h="21600">
                <a:moveTo>
                  <a:pt x="741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772" y="20200"/>
                </a:lnTo>
                <a:close/>
              </a:path>
              <a:path fill="lighten" w="741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tour Somm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09:50:33Z</dcterms:created>
  <dc:creator>.</dc:creator>
  <dc:description/>
  <dc:language>en-US</dc:language>
  <cp:lastModifiedBy>Utilisateur sous licence</cp:lastModifiedBy>
  <dcterms:modified xsi:type="dcterms:W3CDTF">2006-01-16T14:06:58Z</dcterms:modified>
  <cp:revision>55</cp:revision>
  <dc:subject/>
  <dc:title>Pince SCHRADER </dc:title>
</cp:coreProperties>
</file>