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B1D-F05E-4F50-8827-5C44A546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27E-2145-4648-8DEF-58AD4C58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2AB-452C-4116-9B83-E2C0021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D02-36AE-4BA0-893C-571C2F51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E1E-2032-455D-99F1-86F36219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FD7-34C6-438A-B677-8EA2B95A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13D-8CE1-42CB-93E6-96F88227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B60-FC99-42B1-B0F8-A0795E74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088-E4BF-48C8-9845-CE577FE7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7F2-0467-4F63-9F37-721736D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7AF-6B51-4443-8B25-195BAD0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06E-0D66-4548-B829-F8D05C98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F747-FDD3-4EDD-BB74-F19DBB2B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er un ajus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utilisant la fic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 H11   d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4653000"/>
            <a:ext cx="24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e nomin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commune des  2 piè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2637000"/>
            <a:ext cx="24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e nomin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commune des  2 piè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remplir le tableau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tion de la c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788000" y="3860640"/>
            <a:ext cx="4101840" cy="936720"/>
            <a:chOff x="4788000" y="3860640"/>
            <a:chExt cx="4101840" cy="936720"/>
          </a:xfrm>
        </p:grpSpPr>
        <p:sp>
          <p:nvSpPr>
            <p:cNvPr id="48" name=""/>
            <p:cNvSpPr/>
            <p:nvPr/>
          </p:nvSpPr>
          <p:spPr>
            <a:xfrm>
              <a:off x="4788000" y="3860640"/>
              <a:ext cx="4101840" cy="936720"/>
            </a:xfrm>
            <a:custGeom>
              <a:avLst/>
              <a:gdLst/>
              <a:ahLst/>
              <a:rect l="l" t="t" r="r" b="b"/>
              <a:pathLst>
                <a:path w="1968" h="912">
                  <a:moveTo>
                    <a:pt x="0" y="48"/>
                  </a:moveTo>
                  <a:lnTo>
                    <a:pt x="0" y="912"/>
                  </a:lnTo>
                  <a:lnTo>
                    <a:pt x="1968" y="912"/>
                  </a:lnTo>
                  <a:lnTo>
                    <a:pt x="1968" y="0"/>
                  </a:lnTo>
                  <a:lnTo>
                    <a:pt x="1680" y="0"/>
                  </a:lnTo>
                  <a:lnTo>
                    <a:pt x="1680" y="624"/>
                  </a:lnTo>
                  <a:lnTo>
                    <a:pt x="240" y="624"/>
                  </a:lnTo>
                  <a:lnTo>
                    <a:pt x="24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9080" y="4007880"/>
              <a:ext cx="400320" cy="19728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531120" y="3360600"/>
            <a:ext cx="18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15280" y="2111040"/>
            <a:ext cx="0" cy="17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291280" y="2111040"/>
            <a:ext cx="0" cy="5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1280" y="21812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9200" y="1697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1700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292720" y="3284640"/>
            <a:ext cx="2432160" cy="1241280"/>
            <a:chOff x="5292720" y="3284640"/>
            <a:chExt cx="2432160" cy="1241280"/>
          </a:xfrm>
        </p:grpSpPr>
        <p:sp>
          <p:nvSpPr>
            <p:cNvPr id="57" name=""/>
            <p:cNvSpPr/>
            <p:nvPr/>
          </p:nvSpPr>
          <p:spPr>
            <a:xfrm>
              <a:off x="5292720" y="3284640"/>
              <a:ext cx="2432160" cy="124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5280" y="3422520"/>
              <a:ext cx="463680" cy="27576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726320" y="36450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96360" y="407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92720" y="2479320"/>
            <a:ext cx="0" cy="7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685960"/>
            <a:ext cx="243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40480" y="22035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22050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24880" y="2479320"/>
            <a:ext cx="0" cy="7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628640"/>
            <a:ext cx="3887640" cy="245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é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crivez la cote toléranc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ax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in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20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H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29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3284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149720"/>
            <a:ext cx="3887640" cy="245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crivez la cote toléranc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ax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in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d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501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54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9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80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071720" y="2422440"/>
          <a:ext cx="779616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422440"/>
                    <a:ext cx="779616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8220240" y="3529080"/>
            <a:ext cx="815760" cy="1595520"/>
            <a:chOff x="8220240" y="3529080"/>
            <a:chExt cx="815760" cy="1595520"/>
          </a:xfrm>
        </p:grpSpPr>
        <p:sp>
          <p:nvSpPr>
            <p:cNvPr id="81" name=""/>
            <p:cNvSpPr/>
            <p:nvPr/>
          </p:nvSpPr>
          <p:spPr>
            <a:xfrm flipV="1">
              <a:off x="8839080" y="3529080"/>
              <a:ext cx="0" cy="1595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20240" y="3819600"/>
              <a:ext cx="8157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 Narrow"/>
                </a:rPr>
                <a:t>Serrage MAXI =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47240"/>
            <a:ext cx="8123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ment remplir le tableau 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13040" y="3544920"/>
            <a:ext cx="576360" cy="55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584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1840" y="4389480"/>
            <a:ext cx="576360" cy="73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é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3313080"/>
            <a:ext cx="1730520" cy="2665440"/>
            <a:chOff x="0" y="3313080"/>
            <a:chExt cx="1730520" cy="2665440"/>
          </a:xfrm>
        </p:grpSpPr>
        <p:sp>
          <p:nvSpPr>
            <p:cNvPr id="88" name=""/>
            <p:cNvSpPr/>
            <p:nvPr/>
          </p:nvSpPr>
          <p:spPr>
            <a:xfrm>
              <a:off x="0" y="4519440"/>
              <a:ext cx="116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te nomin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3800" y="44798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680" y="391644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35080" y="331308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2920" y="503244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,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8760" y="561024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,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65520" y="3368520"/>
            <a:ext cx="6146640" cy="1943280"/>
            <a:chOff x="2765520" y="3368520"/>
            <a:chExt cx="6146640" cy="1943280"/>
          </a:xfrm>
        </p:grpSpPr>
        <p:sp>
          <p:nvSpPr>
            <p:cNvPr id="95" name=""/>
            <p:cNvSpPr/>
            <p:nvPr/>
          </p:nvSpPr>
          <p:spPr>
            <a:xfrm>
              <a:off x="2765520" y="5127480"/>
              <a:ext cx="614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95760" y="3543480"/>
              <a:ext cx="520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18160" y="3368520"/>
              <a:ext cx="75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19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81360" y="4389480"/>
              <a:ext cx="524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4195800"/>
              <a:ext cx="75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05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87920" y="4943520"/>
              <a:ext cx="757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,92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0640" y="4106880"/>
              <a:ext cx="38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43720" y="3873600"/>
              <a:ext cx="75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1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618320" y="3608280"/>
            <a:ext cx="755640" cy="780840"/>
            <a:chOff x="7618320" y="3608280"/>
            <a:chExt cx="755640" cy="780840"/>
          </a:xfrm>
        </p:grpSpPr>
        <p:sp>
          <p:nvSpPr>
            <p:cNvPr id="104" name=""/>
            <p:cNvSpPr/>
            <p:nvPr/>
          </p:nvSpPr>
          <p:spPr>
            <a:xfrm flipV="1">
              <a:off x="7891560" y="409860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18320" y="3608280"/>
              <a:ext cx="75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 Narrow"/>
                </a:rPr>
                <a:t>Serrage MINI =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 Narrow"/>
                </a:rPr>
                <a:t>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36440" y="2117880"/>
            <a:ext cx="1373400" cy="1471320"/>
            <a:chOff x="136440" y="2117880"/>
            <a:chExt cx="1373400" cy="1471320"/>
          </a:xfrm>
        </p:grpSpPr>
        <p:sp>
          <p:nvSpPr>
            <p:cNvPr id="107" name=""/>
            <p:cNvSpPr/>
            <p:nvPr/>
          </p:nvSpPr>
          <p:spPr>
            <a:xfrm>
              <a:off x="136440" y="2225520"/>
              <a:ext cx="1373400" cy="1363680"/>
            </a:xfrm>
            <a:prstGeom prst="downArrowCallout">
              <a:avLst>
                <a:gd name="adj1" fmla="val 12721"/>
                <a:gd name="adj2" fmla="val 12412"/>
                <a:gd name="adj3" fmla="val 16579"/>
                <a:gd name="adj4" fmla="val 6763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duer le graphique avec une échelle permettant la représentation de toutes les vale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520" y="2117880"/>
              <a:ext cx="357120" cy="32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30320" y="1160640"/>
            <a:ext cx="2827440" cy="1322280"/>
            <a:chOff x="1030320" y="1160640"/>
            <a:chExt cx="2827440" cy="1322280"/>
          </a:xfrm>
        </p:grpSpPr>
        <p:sp>
          <p:nvSpPr>
            <p:cNvPr id="110" name=""/>
            <p:cNvSpPr/>
            <p:nvPr/>
          </p:nvSpPr>
          <p:spPr>
            <a:xfrm>
              <a:off x="1030320" y="1300320"/>
              <a:ext cx="2827440" cy="1182600"/>
            </a:xfrm>
            <a:prstGeom prst="downArrowCallout">
              <a:avLst>
                <a:gd name="adj1" fmla="val 23490"/>
                <a:gd name="adj2" fmla="val 27052"/>
                <a:gd name="adj3" fmla="val 16644"/>
                <a:gd name="adj4" fmla="val 7221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résenter les IT et les dimensions de l’arbre et de l’alésage sous forme d’un rectangle couvrant la zone possible pour les dimen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98440" y="1160640"/>
              <a:ext cx="357480" cy="32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725560" y="781200"/>
            <a:ext cx="2984400" cy="1766880"/>
            <a:chOff x="2725560" y="781200"/>
            <a:chExt cx="2984400" cy="1766880"/>
          </a:xfrm>
        </p:grpSpPr>
        <p:sp>
          <p:nvSpPr>
            <p:cNvPr id="113" name=""/>
            <p:cNvSpPr/>
            <p:nvPr/>
          </p:nvSpPr>
          <p:spPr>
            <a:xfrm>
              <a:off x="2882880" y="893880"/>
              <a:ext cx="2827080" cy="1654200"/>
            </a:xfrm>
            <a:prstGeom prst="downArrowCallout">
              <a:avLst>
                <a:gd name="adj1" fmla="val 21586"/>
                <a:gd name="adj2" fmla="val 21062"/>
                <a:gd name="adj3" fmla="val 16579"/>
                <a:gd name="adj4" fmla="val 1648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uis Repérer les positions de ES,EI,es et 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5560" y="781200"/>
              <a:ext cx="357120" cy="32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03840" y="1233360"/>
            <a:ext cx="2249280" cy="1338120"/>
            <a:chOff x="4803840" y="1233360"/>
            <a:chExt cx="2249280" cy="1338120"/>
          </a:xfrm>
        </p:grpSpPr>
        <p:sp>
          <p:nvSpPr>
            <p:cNvPr id="116" name=""/>
            <p:cNvSpPr/>
            <p:nvPr/>
          </p:nvSpPr>
          <p:spPr>
            <a:xfrm>
              <a:off x="4803840" y="1362240"/>
              <a:ext cx="2249280" cy="1209240"/>
            </a:xfrm>
            <a:prstGeom prst="downArrowCallout">
              <a:avLst>
                <a:gd name="adj1" fmla="val 23494"/>
                <a:gd name="adj2" fmla="val 22924"/>
                <a:gd name="adj3" fmla="val 16579"/>
                <a:gd name="adj4" fmla="val 6047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orter les valeurs correspondantes aux dimensions limites des arbres et alésag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0960" y="1233360"/>
              <a:ext cx="3574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72240" y="173160"/>
            <a:ext cx="137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6880" y="690480"/>
            <a:ext cx="863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33560" y="3321000"/>
            <a:ext cx="1874520" cy="1938240"/>
            <a:chOff x="1933560" y="3321000"/>
            <a:chExt cx="1874520" cy="1938240"/>
          </a:xfrm>
        </p:grpSpPr>
        <p:sp>
          <p:nvSpPr>
            <p:cNvPr id="121" name=""/>
            <p:cNvSpPr/>
            <p:nvPr/>
          </p:nvSpPr>
          <p:spPr>
            <a:xfrm>
              <a:off x="3389040" y="332100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6040" y="3835080"/>
              <a:ext cx="39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33560" y="41796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8760" y="4890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389720" y="1236600"/>
            <a:ext cx="1616040" cy="1353960"/>
            <a:chOff x="7389720" y="1236600"/>
            <a:chExt cx="1616040" cy="1353960"/>
          </a:xfrm>
        </p:grpSpPr>
        <p:sp>
          <p:nvSpPr>
            <p:cNvPr id="126" name=""/>
            <p:cNvSpPr/>
            <p:nvPr/>
          </p:nvSpPr>
          <p:spPr>
            <a:xfrm>
              <a:off x="7389720" y="1366920"/>
              <a:ext cx="1616040" cy="1223640"/>
            </a:xfrm>
            <a:prstGeom prst="downArrowCallout">
              <a:avLst>
                <a:gd name="adj1" fmla="val 16681"/>
                <a:gd name="adj2" fmla="val 16276"/>
                <a:gd name="adj3" fmla="val 16579"/>
                <a:gd name="adj4" fmla="val 6047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résenter les Jeux ou Serrages MAXI et MIN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52000" y="1236600"/>
              <a:ext cx="256680" cy="30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6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remplir le tableau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 des je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Calcul des jeux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IT se chevauchent ils ?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quel type d’ajustement s’agit il ?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700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1268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rement dit peu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plir le tabl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0:04:02Z</dcterms:created>
  <dc:creator>marc.boule</dc:creator>
  <dc:description/>
  <dc:language>en-US</dc:language>
  <cp:lastModifiedBy>marc.boule</cp:lastModifiedBy>
  <dcterms:modified xsi:type="dcterms:W3CDTF">2004-12-16T11:01:07Z</dcterms:modified>
  <cp:revision>6</cp:revision>
  <dc:subject/>
  <dc:title>Calculer un ajustement</dc:title>
</cp:coreProperties>
</file>